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4F3A-D7E4-46F3-896F-90ACBFD16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15FD-6B3B-4445-923B-1E6559BC8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7454-900A-4F2C-A7F1-89BE01811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1EA2-80D7-48BB-86A7-EF5A4824E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2590-C51E-4F67-95E1-8980D6830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2DDD-EB74-49D5-9329-03AA446E7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0639-52E6-499A-9E8A-221EB3582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135B-1B74-423B-B553-277A93AE8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F003-679F-40A6-A91A-6FDAD4792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3362-C5A0-4B39-AA90-4610C1B3E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EED3-511E-473B-A899-B418BA664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4729-C33A-4876-A677-616D73E06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F5FEB-B2B8-4C2C-BCFC-F5D11C2177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55640" y="981000"/>
            <a:ext cx="756144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0" spc="-1" strike="noStrike">
                <a:solidFill>
                  <a:srgbClr val="000000"/>
                </a:solidFill>
                <a:latin typeface="Comic Sans MS"/>
              </a:rPr>
              <a:t>Cuál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763640" y="981000"/>
            <a:ext cx="57610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0" spc="-1" strike="noStrike">
                <a:solidFill>
                  <a:srgbClr val="000000"/>
                </a:solidFill>
                <a:latin typeface="Comic Sans MS"/>
              </a:rPr>
              <a:t>es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763640" y="981000"/>
            <a:ext cx="57610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0" spc="-1" strike="noStrike">
                <a:solidFill>
                  <a:srgbClr val="000000"/>
                </a:solidFill>
                <a:latin typeface="Comic Sans MS"/>
              </a:rPr>
              <a:t>tu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24000" y="981000"/>
            <a:ext cx="849600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0" spc="-1" strike="noStrike">
                <a:solidFill>
                  <a:srgbClr val="000000"/>
                </a:solidFill>
                <a:latin typeface="Comic Sans MS"/>
              </a:rPr>
              <a:t>color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9810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0" spc="-1" strike="noStrike">
                <a:solidFill>
                  <a:srgbClr val="000000"/>
                </a:solidFill>
                <a:latin typeface="Comic Sans MS"/>
              </a:rPr>
              <a:t>favorito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981000"/>
            <a:ext cx="9144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0000"/>
                </a:solidFill>
                <a:latin typeface="Comic Sans MS"/>
              </a:rPr>
              <a:t>preferido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11280" y="333360"/>
            <a:ext cx="165564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¿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6516360" y="1555920"/>
            <a:ext cx="165564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Arial"/>
              </a:rPr>
              <a:t>¿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07:17:44Z</dcterms:created>
  <dc:creator>Helen</dc:creator>
  <dc:description/>
  <dc:language>en-US</dc:language>
  <cp:lastModifiedBy>Helen</cp:lastModifiedBy>
  <dcterms:modified xsi:type="dcterms:W3CDTF">2009-03-02T17:29:32Z</dcterms:modified>
  <cp:revision>2</cp:revision>
  <dc:subject/>
  <dc:title>Slide 1</dc:title>
</cp:coreProperties>
</file>